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2AA-471F-497C-9943-13396575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75E-BB3D-4C93-96CD-350FA88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C24-5346-407E-8280-C9FDA620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07B-01BE-4624-BD3F-EC0B9545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60A-4465-4FF2-9C4B-A5B7AC63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602-D094-45E4-AF1D-00DEF6A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012-CB38-4BEF-AA51-4CB286F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1B5-212F-4499-948D-17E687C6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829-FB99-48DF-8F72-FD58E29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E2B-28D8-4C86-A4B7-1A5C013A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213-6791-4055-86EA-7EEEB914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05E-571E-4B83-96D4-148DC5B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E705-49EE-4595-8FF3-1A6782B7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equations into y=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without a variable is the y-intercept.  Graph it on the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 to find additional points.  Remember, slope is rise/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09060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solution of a system of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system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lopes to identify consistent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ystem of equ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wo or more related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linear system of equations is an ordered pair of real numbers (x, y) that satisfy all of the equations in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system of linear equation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090600" cy="31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0120" y="3809880"/>
            <a:ext cx="838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867280" y="3276360"/>
            <a:ext cx="2286000" cy="2361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048120"/>
            <a:ext cx="1752840" cy="175248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-x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x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-3y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090600" cy="317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7010280" y="2895480"/>
            <a:ext cx="1371600" cy="274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705360" y="2743200"/>
            <a:ext cx="1523880" cy="297180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2x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2x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581280"/>
            <a:ext cx="198108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tersection! this is called an inconsistent syst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-2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090600" cy="31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6477120" y="2895480"/>
            <a:ext cx="1295280" cy="2819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00800" y="2819520"/>
            <a:ext cx="1447920" cy="304776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2x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2x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2767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the same! this is called a depend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you determine if a system is consist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onsistent, the line may not have the sam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equation into y=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of x is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se consist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2y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 +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5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0:41:43Z</dcterms:created>
  <dc:creator>nuhs</dc:creator>
  <dc:description/>
  <dc:language>en-US</dc:language>
  <cp:lastModifiedBy>nuhs</cp:lastModifiedBy>
  <dcterms:modified xsi:type="dcterms:W3CDTF">2007-10-15T19:52:14Z</dcterms:modified>
  <cp:revision>15</cp:revision>
  <dc:subject/>
  <dc:title>Algebra 2A</dc:title>
</cp:coreProperties>
</file>